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231-82E7-410D-B8D3-8661DBAA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F2D-D207-402D-AC37-B0DDD29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4D5-41CE-4779-B06E-74816DA2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728-A970-47EB-922F-ECA301C0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ECCD-E8AF-4C2C-B9EA-1EF6366E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9F8-141A-4785-8ED9-B9130CA2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1CEA-A2AE-486D-B40F-FAF373FB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328-0296-4A25-8321-D878AB6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D96D-BE91-426C-9A0A-2AB718F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C85-6EED-4E3B-B375-07CD0EB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95C-0223-4AA0-A8FF-6CDF7FF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BA9-5198-4A4B-A422-22E03C1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786-D2A0-4D3C-BD84-28C5B4C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829-58FA-4E2B-B7D1-0E2DE45A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C7A-E389-4594-9CEF-E8A0FF7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A8D1-0C9E-4494-A483-7E66B185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4C50-1BFD-4B40-9D14-0A539D6B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357-54AA-4993-8BB5-3022B85D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70C-8CB5-4F0C-AF22-2E1A6AAE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818-E2F6-4B2F-952D-22698CFC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823-B319-4B1D-8648-922E2FF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609-631B-4354-9909-C3CC32C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C29-262E-4518-AD91-499B28CD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08B-BEFA-405C-BA19-9A26C6E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81C-EC0D-4DF6-9A36-AA43A6364DF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BD2A-38B4-4134-8327-1ACCF23E624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OF WHALES AND WONDER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af7d"/>
                </a:solidFill>
                <a:latin typeface="comic"/>
              </a:rPr>
              <a:t>LISA RASPANTI &amp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af7d"/>
                </a:solidFill>
                <a:latin typeface="comic"/>
              </a:rPr>
              <a:t>KERRI COBUR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Reluctant</a:t>
            </a:r>
            <a:r>
              <a:rPr b="0" lang="en-US" sz="2400" spc="-1" strike="noStrike">
                <a:solidFill>
                  <a:srgbClr val="f7d47d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Learners - or Are They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ny children and adolescents who are labeled “reluctant learners” are anything but reluctant to lear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utilize a great deal of energy on activities that engage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ir imagination is often unable to connect with the curriculum provided in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comic"/>
              </a:rPr>
              <a:t>Making the curriculum more engaging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v Vygotsky (1962,1997) suggests that the imaginations of “reluctant learners” can be engaged through using cognitive too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gnitive tools enhance an individual’s ability 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munic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derst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2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Cognitive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9af7d"/>
                </a:solidFill>
                <a:latin typeface="comic"/>
              </a:rPr>
              <a:t>Tool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y child who has mastered oral language has many tools available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ree oral language tools described a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ory Structur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inary Opposit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rming Images from Wor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3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af7d"/>
                </a:solidFill>
                <a:latin typeface="comic"/>
              </a:rPr>
              <a:t>STORY STRUCTURING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apes experiences and knowledge into forms that establish their emotional mea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ps us understand how we feel about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used in teaching we should ask ourselves how to make the factual content clear while bring out emotional importa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af7d"/>
                </a:solidFill>
                <a:latin typeface="comic"/>
              </a:rPr>
              <a:t>BINARY OPPOSIT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uno Bettelheim (1976) noted that children “bring order into their world by dividing everything into opposites”(p.74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ed in many fairy ta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mple opposites are not adequate to describe the complexity of the worl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comic"/>
              </a:rPr>
              <a:t>FORMING IMAGES FROM WORD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scriptions which enable us to form images in our hea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ffective in engaging our imagin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ping us to retain facts, events and idea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portant to search for emotionally charges images in curriculum topic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comic"/>
              </a:rPr>
              <a:t>Summ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zing cognitive tools makes education more engaging and hum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ch tools will enable “reluctant learners” to engage in the learning proces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34:45Z</dcterms:created>
  <dc:creator>Rockland BOCES</dc:creator>
  <dc:description/>
  <dc:language>en-US</dc:language>
  <cp:lastModifiedBy>North Rockland High School</cp:lastModifiedBy>
  <dcterms:modified xsi:type="dcterms:W3CDTF">2008-04-02T20:01:07Z</dcterms:modified>
  <cp:revision>9</cp:revision>
  <dc:subject/>
  <dc:title>OF WHALES AND WONDER</dc:title>
</cp:coreProperties>
</file>